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8535988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802E-5BA3-4711-BD12-2CE2F7EBE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7772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75920"/>
            <a:ext cx="7772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05B4-ACE4-4BDF-B8AA-34E6E982F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759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759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C778-6457-4DED-9A06-0086FE008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320004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320004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7592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7592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7592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306C-435B-4950-B0BE-696D3D006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4800-29C4-4405-B0C4-5EFE39EFD9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3200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6221-093A-4E22-B2F7-DE01E7F594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5244-3135-4CB5-B005-BD66F4F7D6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7117-ECF0-4926-9471-A47A901635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1DC5-2188-4076-9024-A3FD8B6972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Autofit/>
          </a:bodyPr>
          <a:p>
            <a:pPr>
              <a:lnSpc>
                <a:spcPct val="111000"/>
              </a:lnSpc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89AA-ACE4-4060-83A0-50799FF5F7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40759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85F2-CF13-434F-BACC-D6CFF45A7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3200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4D23-5217-429E-9D13-A04916F95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40759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6B6C-2102-4300-A06E-68938985F6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75920"/>
            <a:ext cx="7772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2293-7A89-4301-ABFD-830C11EDD2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7772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4075920"/>
            <a:ext cx="7772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9D81-0AE8-432C-9464-21E9FE66E8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0759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40759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1CA9-0E1F-41C0-9D7B-E78A1C186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320004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320004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407592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407592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407592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4728-BBCA-4AB4-8C1F-ED99CACE07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9BA5-C5EC-45DD-9A69-DCEB4B90E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F942-E7CA-4D50-8365-F2DE6FC9F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EC8A-5195-454E-9F33-28224B0D1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Autofit/>
          </a:bodyPr>
          <a:p>
            <a:pPr>
              <a:lnSpc>
                <a:spcPct val="111000"/>
              </a:lnSpc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41FA-DF8C-4A46-8ABA-5E90B81F7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759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5515-935E-44EB-B6EB-A43C5632D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759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CD14-7B93-47E5-8FCD-81E6213FE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32000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75920"/>
            <a:ext cx="7772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FD99-B5ED-497F-AE9A-D92A10061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" name="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747474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15A7-918C-47F1-ABFA-0F17CDAC0E10}" type="slidenum">
              <a:rPr b="0" lang="de-DE" sz="1500" spc="-1" strike="noStrike">
                <a:solidFill>
                  <a:srgbClr val="747474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33520" y="1066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5d7298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5d7298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5d7298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5d7298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5d7298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2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747474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4C34-3792-4BC4-A35C-4C025FCF05E0}" type="slidenum">
              <a:rPr b="0" lang="de-DE" sz="1500" spc="-1" strike="noStrike">
                <a:solidFill>
                  <a:srgbClr val="747474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26600" y="1444680"/>
            <a:ext cx="7681680" cy="35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5d7298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420840" indent="-1800">
              <a:lnSpc>
                <a:spcPct val="111000"/>
              </a:lnSpc>
              <a:buClr>
                <a:srgbClr val="5d7298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839880" indent="-115920">
              <a:lnSpc>
                <a:spcPct val="111000"/>
              </a:lnSpc>
              <a:buClr>
                <a:srgbClr val="5d7298"/>
              </a:buClr>
              <a:buSzPct val="50000"/>
              <a:buFont typeface="Wingdings" charset="2"/>
              <a:buChar char=""/>
              <a:tabLst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60360" indent="-231480">
              <a:lnSpc>
                <a:spcPct val="111000"/>
              </a:lnSpc>
              <a:buClr>
                <a:srgbClr val="5d7298"/>
              </a:buClr>
              <a:buSzPct val="50000"/>
              <a:buFont typeface="Wingdings" charset="2"/>
              <a:buChar char=""/>
              <a:tabLst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681200" indent="-347760">
              <a:lnSpc>
                <a:spcPct val="111000"/>
              </a:lnSpc>
              <a:buClr>
                <a:srgbClr val="5d7298"/>
              </a:buClr>
              <a:buSzPct val="50000"/>
              <a:buFont typeface="Wingdings" charset="2"/>
              <a:buChar char=""/>
              <a:tabLst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681200" indent="-34776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681200" indent="-34776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320" y="5653080"/>
            <a:ext cx="380880" cy="17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3520" y="5931000"/>
            <a:ext cx="5715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47474"/>
                </a:solidFill>
                <a:latin typeface="Bosch Office Sans"/>
              </a:rPr>
              <a:t>Arthur O'Meara | 4/16/2010 | © 2010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9044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638680"/>
            <a:ext cx="5715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3" name=""/>
          <p:cNvSpPr/>
          <p:nvPr/>
        </p:nvSpPr>
        <p:spPr>
          <a:xfrm>
            <a:off x="8508960" y="6019920"/>
            <a:ext cx="25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28592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sch Office Sans"/>
              </a:rPr>
              <a:t>The Transportation Security Administration’s Cargo Screening Mandate: </a:t>
            </a:r>
            <a:r>
              <a:rPr b="0" lang="en-US" sz="2100" spc="-1" strike="noStrike">
                <a:solidFill>
                  <a:srgbClr val="000000"/>
                </a:solidFill>
                <a:latin typeface="Bosch Office Sans"/>
              </a:rPr>
              <a:t>Update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Bosch Office Sans"/>
              </a:rPr>
              <a:t>International Trade Association of Greater Chicago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Bosch Office Sans"/>
              </a:rPr>
              <a:t>April 2010</a:t>
            </a:r>
            <a:br>
              <a:rPr sz="2100"/>
            </a:br>
            <a:br>
              <a:rPr sz="2300"/>
            </a:br>
            <a:r>
              <a:rPr b="0" lang="en-US" sz="2100" spc="-1" strike="noStrike">
                <a:solidFill>
                  <a:srgbClr val="000000"/>
                </a:solidFill>
                <a:latin typeface="Bosch Office Sans"/>
              </a:rPr>
              <a:t>Arthur O’Meara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Bosch Office Sans"/>
              </a:rPr>
              <a:t>Robert Bosch LLC</a:t>
            </a:r>
            <a:endParaRPr b="0" lang="en-US" sz="19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3200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1BF7-4308-4B3A-9CCA-0D6226376B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sch Office Sans"/>
              </a:rPr>
              <a:t>CARGO SCREENING EXAMPLES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5" name=""/>
          <p:cNvSpPr/>
          <p:nvPr/>
        </p:nvSpPr>
        <p:spPr>
          <a:xfrm>
            <a:off x="444600" y="882720"/>
            <a:ext cx="69721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ample of Non-Homogenized Pieces; 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hrink wrap must be removed and ETD sample at piece level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55560" y="1465200"/>
            <a:ext cx="7140600" cy="3971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 (*DHL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0423-14F9-4F63-8918-9C7E996AD5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sch Office Sans"/>
              </a:rPr>
              <a:t>CARGO SCREENING EXAMPLES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9" name=""/>
          <p:cNvSpPr/>
          <p:nvPr/>
        </p:nvSpPr>
        <p:spPr>
          <a:xfrm>
            <a:off x="444600" y="882720"/>
            <a:ext cx="6972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is Must Be Broken Down for Screening and ETD sample at piece level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96960" y="1460520"/>
            <a:ext cx="7041960" cy="4056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 (*DHL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3214-D45A-49C3-8B57-E40F5BA665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sch Office Sans"/>
              </a:rPr>
              <a:t>CARGO SCREENING EXAMPLES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73" name=""/>
          <p:cNvSpPr/>
          <p:nvPr/>
        </p:nvSpPr>
        <p:spPr>
          <a:xfrm>
            <a:off x="444600" y="882720"/>
            <a:ext cx="6972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is Must Be Broken Down for Screening at piece level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95160" y="1450800"/>
            <a:ext cx="7016760" cy="4098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 (*DHL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3C15-635F-4C2B-BBE6-D37486F4BA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sch Office Sans"/>
              </a:rPr>
              <a:t>CARGO SCREENING EXAMPLES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77" name=""/>
          <p:cNvSpPr/>
          <p:nvPr/>
        </p:nvSpPr>
        <p:spPr>
          <a:xfrm>
            <a:off x="444600" y="882720"/>
            <a:ext cx="69721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is Must Be Broken Down for Screening: DGF will do all possible to maintain pallet integrity and signage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66720" y="1471680"/>
            <a:ext cx="5346720" cy="4084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 (*DHL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0594-7842-4717-A61B-32A0DABDD9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sch Office Sans"/>
              </a:rPr>
              <a:t>CARGO SCREENING EXAMPLES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44600" y="882720"/>
            <a:ext cx="69721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rapping of any type (including black shrink wrap) must be removed to allow access to the surface of each piece for ETD Screening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30600" y="1465200"/>
            <a:ext cx="3600720" cy="3376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06440" y="1465200"/>
            <a:ext cx="3983040" cy="3360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 (*DHL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6704-9A1D-4C5C-963B-0E413B43A0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320" y="5653080"/>
            <a:ext cx="380880" cy="174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5931000"/>
            <a:ext cx="5715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47474"/>
                </a:solidFill>
                <a:latin typeface="Bosch Office Sans"/>
              </a:rPr>
              <a:t>Arthur O'Meara | 4/16/2010 | © 2010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19044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5638680"/>
            <a:ext cx="5715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0" name=""/>
          <p:cNvSpPr/>
          <p:nvPr/>
        </p:nvSpPr>
        <p:spPr>
          <a:xfrm>
            <a:off x="8508960" y="6019920"/>
            <a:ext cx="25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6360" y="13287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514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2" name=""/>
          <p:cNvSpPr/>
          <p:nvPr/>
        </p:nvSpPr>
        <p:spPr>
          <a:xfrm>
            <a:off x="163440" y="782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Costs to change packing vs. costs for screening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06720" y="1119240"/>
            <a:ext cx="4248000" cy="4199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996160" y="782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Delays to change packing vs. delays due to screening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5" name=""/>
          <p:cNvSpPr/>
          <p:nvPr/>
        </p:nvSpPr>
        <p:spPr>
          <a:xfrm>
            <a:off x="5923080" y="48862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Costs for screening vs. costs to become a CCSF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6" name=""/>
          <p:cNvSpPr/>
          <p:nvPr/>
        </p:nvSpPr>
        <p:spPr>
          <a:xfrm>
            <a:off x="235080" y="48862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Increased cut-off times by forwarder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7616-0D98-48FD-80ED-A4892F65F9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320" y="5653080"/>
            <a:ext cx="380880" cy="174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3520" y="5931000"/>
            <a:ext cx="5715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47474"/>
                </a:solidFill>
                <a:latin typeface="Bosch Office Sans"/>
              </a:rPr>
              <a:t>Arthur O'Meara | 4/16/2010 | © 2010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19044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5638680"/>
            <a:ext cx="5715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2" name=""/>
          <p:cNvSpPr/>
          <p:nvPr/>
        </p:nvSpPr>
        <p:spPr>
          <a:xfrm>
            <a:off x="8508960" y="6019920"/>
            <a:ext cx="25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6360" y="13287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514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46360" y="1501920"/>
            <a:ext cx="5243400" cy="3608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9440" y="8539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nally…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9D71-AC1E-4B5D-914A-37A3D934B8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320" y="5653080"/>
            <a:ext cx="380880" cy="174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5931000"/>
            <a:ext cx="5715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47474"/>
                </a:solidFill>
                <a:latin typeface="Bosch Office Sans"/>
              </a:rPr>
              <a:t>Arthur O'Meara | 4/16/2010 | © 2010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19044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5638680"/>
            <a:ext cx="5715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11" name=""/>
          <p:cNvSpPr/>
          <p:nvPr/>
        </p:nvSpPr>
        <p:spPr>
          <a:xfrm>
            <a:off x="8508960" y="6019920"/>
            <a:ext cx="25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069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Bosch Office Sans"/>
              </a:rPr>
              <a:t>Thank you.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Bosch Office Sans"/>
              </a:rPr>
              <a:t> The Transportation Security Administration’s Cargo Screening Mandate: Update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Bosch Office Sans"/>
              </a:rPr>
              <a:t>Arthur O’Meara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Bosch Office Sans"/>
              </a:rPr>
              <a:t>ITAGC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Bosch Office Sans"/>
              </a:rPr>
              <a:t>Robert Bosch LLC</a:t>
            </a:r>
            <a:endParaRPr b="0" lang="en-US" sz="25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3200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B799-84B3-4ACF-824D-02A631A5E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320" y="5653080"/>
            <a:ext cx="380880" cy="174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5931000"/>
            <a:ext cx="5715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47474"/>
                </a:solidFill>
                <a:latin typeface="Bosch Office Sans"/>
              </a:rPr>
              <a:t>Arthur O'Meara | 4/16/2010 | © 2010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19044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5638680"/>
            <a:ext cx="5715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1" name=""/>
          <p:cNvSpPr/>
          <p:nvPr/>
        </p:nvSpPr>
        <p:spPr>
          <a:xfrm>
            <a:off x="8508960" y="6019920"/>
            <a:ext cx="25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3200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Autofit/>
          </a:bodyPr>
          <a:p>
            <a:pPr>
              <a:lnSpc>
                <a:spcPct val="111000"/>
              </a:lnSpc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3" name=""/>
          <p:cNvSpPr/>
          <p:nvPr/>
        </p:nvSpPr>
        <p:spPr>
          <a:xfrm>
            <a:off x="811080" y="1357200"/>
            <a:ext cx="6985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In response to the attacks of 9/11, indirect air carriers must ensure that every piece of cargo is screened using TSA-approved methods and technology before the cargo is loaded.</a:t>
            </a: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Non-carriers (manufacturers, shippers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sch Office San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-party screeners) (with TSA approval) may also screen cargo.</a:t>
            </a: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Review of TSA Cargo Screening Issue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E76B-8CC0-450F-A9B9-736113D56F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320" y="5653080"/>
            <a:ext cx="380880" cy="174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5931000"/>
            <a:ext cx="5715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747474"/>
                </a:solidFill>
                <a:latin typeface="Bosch Office Sans"/>
              </a:rPr>
              <a:t>Arthur O'Meara | 4/16/2010 | © 2010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19044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638680"/>
            <a:ext cx="5715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0" name=""/>
          <p:cNvSpPr/>
          <p:nvPr/>
        </p:nvSpPr>
        <p:spPr>
          <a:xfrm>
            <a:off x="233280" y="638280"/>
            <a:ext cx="781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77920" y="1608120"/>
            <a:ext cx="748512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157320" indent="-157320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Mandates 100% screening by August 2010 and requires TSA to: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25600" indent="-209520">
              <a:lnSpc>
                <a:spcPct val="100000"/>
              </a:lnSpc>
              <a:buClr>
                <a:srgbClr val="000000"/>
              </a:buClr>
              <a:buFont typeface="Bosch Office Sans"/>
              <a:buChar char="•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Establish a system to screen 100% of cargo transported on passenger aircraft.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25600" indent="-209520">
              <a:lnSpc>
                <a:spcPct val="100000"/>
              </a:lnSpc>
              <a:buClr>
                <a:srgbClr val="000000"/>
              </a:buClr>
              <a:buFont typeface="Bosch Office Sans"/>
              <a:buChar char="•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Provide a level of security commensurate to that of passenger baggage.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25600" indent="-209520">
              <a:lnSpc>
                <a:spcPct val="100000"/>
              </a:lnSpc>
              <a:buClr>
                <a:srgbClr val="000000"/>
              </a:buClr>
              <a:buFont typeface="Bosch Office Sans"/>
              <a:buChar char="•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Meet inspections benchmarks: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890720" indent="-209520">
              <a:lnSpc>
                <a:spcPct val="100000"/>
              </a:lnSpc>
              <a:tabLst>
                <a:tab algn="l" pos="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50% of cargo must be screened not later than 18 months (February 2, 2009) after date of enactment.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2" marL="1050840" indent="-210960">
              <a:lnSpc>
                <a:spcPct val="100000"/>
              </a:lnSpc>
              <a:tabLst>
                <a:tab algn="l" pos="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Bosch Office Sans"/>
              </a:rPr>
              <a:t>100% of cargo must be screened not later than 3 years (August 3. 2010) after date of enactment.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4238640"/>
            <a:ext cx="1297080" cy="100800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3" name=""/>
          <p:cNvSpPr/>
          <p:nvPr/>
        </p:nvSpPr>
        <p:spPr>
          <a:xfrm>
            <a:off x="809640" y="452592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sch Office Sans"/>
              </a:rPr>
              <a:t>9/11 Act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sch Office Sans"/>
              </a:rPr>
              <a:t>Aug07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4" name=""/>
          <p:cNvSpPr/>
          <p:nvPr/>
        </p:nvSpPr>
        <p:spPr>
          <a:xfrm>
            <a:off x="2682720" y="4238640"/>
            <a:ext cx="1297080" cy="100800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5" name=""/>
          <p:cNvSpPr/>
          <p:nvPr/>
        </p:nvSpPr>
        <p:spPr>
          <a:xfrm>
            <a:off x="6931080" y="4238640"/>
            <a:ext cx="1297080" cy="100800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6" name=""/>
          <p:cNvSpPr/>
          <p:nvPr/>
        </p:nvSpPr>
        <p:spPr>
          <a:xfrm>
            <a:off x="2898720" y="452592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sch Office Sans"/>
              </a:rPr>
              <a:t>50% screening Feb09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7" name=""/>
          <p:cNvSpPr/>
          <p:nvPr/>
        </p:nvSpPr>
        <p:spPr>
          <a:xfrm>
            <a:off x="7147080" y="445464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sch Office Sans"/>
              </a:rPr>
              <a:t>100% screening Aug10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8" name=""/>
          <p:cNvSpPr/>
          <p:nvPr/>
        </p:nvSpPr>
        <p:spPr>
          <a:xfrm>
            <a:off x="1530360" y="782640"/>
            <a:ext cx="4681440" cy="36828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Bosch Office Sans"/>
              </a:rPr>
              <a:t>9/11 Commission Act of 2007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9" name=""/>
          <p:cNvSpPr/>
          <p:nvPr/>
        </p:nvSpPr>
        <p:spPr>
          <a:xfrm>
            <a:off x="1892160" y="4670280"/>
            <a:ext cx="719280" cy="144720"/>
          </a:xfrm>
          <a:prstGeom prst="rightArrow">
            <a:avLst>
              <a:gd name="adj1" fmla="val 50000"/>
              <a:gd name="adj2" fmla="val 124254"/>
            </a:avLst>
          </a:prstGeom>
          <a:solidFill>
            <a:srgbClr val="153b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0" name=""/>
          <p:cNvSpPr/>
          <p:nvPr/>
        </p:nvSpPr>
        <p:spPr>
          <a:xfrm>
            <a:off x="4051440" y="467028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153b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4381560"/>
            <a:ext cx="86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sch Office Sans"/>
              </a:rPr>
              <a:t>75% Interim Deadline </a:t>
            </a:r>
            <a:r>
              <a:rPr b="0" lang="en-US" sz="1200" spc="-1" strike="noStrike">
                <a:solidFill>
                  <a:srgbClr val="df0024"/>
                </a:solidFill>
                <a:latin typeface="Bosch Office Sans"/>
              </a:rPr>
              <a:t>(Brandon)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915080" y="4238640"/>
            <a:ext cx="1296720" cy="100800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3" name=""/>
          <p:cNvSpPr/>
          <p:nvPr/>
        </p:nvSpPr>
        <p:spPr>
          <a:xfrm>
            <a:off x="6284880" y="4670280"/>
            <a:ext cx="719280" cy="144720"/>
          </a:xfrm>
          <a:prstGeom prst="rightArrow">
            <a:avLst>
              <a:gd name="adj1" fmla="val 50000"/>
              <a:gd name="adj2" fmla="val 124254"/>
            </a:avLst>
          </a:prstGeom>
          <a:solidFill>
            <a:srgbClr val="153b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32EA-35D9-4C1C-803D-A5BD0CD8F9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320" y="5653080"/>
            <a:ext cx="380880" cy="174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5931000"/>
            <a:ext cx="5715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47474"/>
                </a:solidFill>
                <a:latin typeface="Bosch Office Sans"/>
              </a:rPr>
              <a:t>Arthur O'Meara | 4/16/2010 | © 2010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19044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638680"/>
            <a:ext cx="5715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9" name=""/>
          <p:cNvSpPr/>
          <p:nvPr/>
        </p:nvSpPr>
        <p:spPr>
          <a:xfrm>
            <a:off x="8508960" y="6019920"/>
            <a:ext cx="25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3520" y="3200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Autofit/>
          </a:bodyPr>
          <a:p>
            <a:pPr>
              <a:lnSpc>
                <a:spcPct val="111000"/>
              </a:lnSpc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1" name=""/>
          <p:cNvSpPr/>
          <p:nvPr/>
        </p:nvSpPr>
        <p:spPr>
          <a:xfrm>
            <a:off x="811080" y="13572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Carriers and Indirect Air Carriers will </a:t>
            </a: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pass the </a:t>
            </a:r>
            <a:r>
              <a:rPr b="0" lang="en-US" sz="2400" spc="-1" strike="noStrike">
                <a:solidFill>
                  <a:srgbClr val="df0024"/>
                </a:solidFill>
                <a:latin typeface="Bosch Office Sans"/>
              </a:rPr>
              <a:t>burden</a:t>
            </a: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 for compliance down to shippers, who will pass it down to customers, making US-origin goods more expensive, but </a:t>
            </a:r>
            <a:r>
              <a:rPr b="1" lang="en-US" sz="2400" spc="-1" strike="noStrike">
                <a:solidFill>
                  <a:srgbClr val="153b63"/>
                </a:solidFill>
                <a:latin typeface="Bosch Office Sans"/>
              </a:rPr>
              <a:t>safer</a:t>
            </a: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Effects of TSA Cargo Screening Mandate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3" name=""/>
          <p:cNvSpPr/>
          <p:nvPr/>
        </p:nvSpPr>
        <p:spPr>
          <a:xfrm>
            <a:off x="882720" y="3230640"/>
            <a:ext cx="5616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e </a:t>
            </a:r>
            <a:r>
              <a:rPr b="0" lang="en-US" sz="1800" spc="-1" strike="noStrike">
                <a:solidFill>
                  <a:srgbClr val="df0024"/>
                </a:solidFill>
                <a:latin typeface="Bosch Office Sans"/>
              </a:rPr>
              <a:t>burden</a:t>
            </a: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 for shippers of this Mandate: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Bosch Office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osts for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Bosch Office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Delays for screening (advanced cut-off times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Bosch Office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osts for repack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Bosch Office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Delays for repack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5CA0-6E75-48EB-8DC9-93EFA2BAC6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320" y="5653080"/>
            <a:ext cx="380880" cy="174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5931000"/>
            <a:ext cx="5715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47474"/>
                </a:solidFill>
                <a:latin typeface="Bosch Office Sans"/>
              </a:rPr>
              <a:t>Arthur O'Meara | 4/16/2010 | © 2010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19044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5638680"/>
            <a:ext cx="5715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9" name=""/>
          <p:cNvSpPr/>
          <p:nvPr/>
        </p:nvSpPr>
        <p:spPr>
          <a:xfrm>
            <a:off x="8508960" y="6019920"/>
            <a:ext cx="25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6360" y="13287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514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1" name=""/>
          <p:cNvSpPr/>
          <p:nvPr/>
        </p:nvSpPr>
        <p:spPr>
          <a:xfrm>
            <a:off x="1098720" y="1204920"/>
            <a:ext cx="59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Q: What is one way shippers can mitigate some of this burden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A: Change the way they pack their goods.</a:t>
            </a: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2" name=""/>
          <p:cNvSpPr/>
          <p:nvPr/>
        </p:nvSpPr>
        <p:spPr>
          <a:xfrm>
            <a:off x="1098720" y="3086280"/>
            <a:ext cx="561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Bosch Office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osts for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Bosch Office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Delays for screening (advanced cut-off times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marL="457200" indent="-457200">
              <a:spcBef>
                <a:spcPts val="1125"/>
              </a:spcBef>
              <a:buClr>
                <a:srgbClr val="c7cfdc"/>
              </a:buClr>
              <a:buFont typeface="Bosch Office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7cfdc"/>
                </a:solidFill>
                <a:latin typeface="Bosch Office Sans"/>
              </a:rPr>
              <a:t>Costs for repack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marL="457200" indent="-457200">
              <a:spcBef>
                <a:spcPts val="1125"/>
              </a:spcBef>
              <a:buClr>
                <a:srgbClr val="c7cfdc"/>
              </a:buClr>
              <a:buFont typeface="Bosch Office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7cfdc"/>
                </a:solidFill>
                <a:latin typeface="Bosch Office Sans"/>
              </a:rPr>
              <a:t>Delays for repack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6445-0C47-4CA5-B9A7-5AA275FB31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320" y="5653080"/>
            <a:ext cx="380880" cy="174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5931000"/>
            <a:ext cx="5715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47474"/>
                </a:solidFill>
                <a:latin typeface="Bosch Office Sans"/>
              </a:rPr>
              <a:t>Arthur O'Meara | 4/16/2010 | © 2010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19044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5638680"/>
            <a:ext cx="5715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8" name=""/>
          <p:cNvSpPr/>
          <p:nvPr/>
        </p:nvSpPr>
        <p:spPr>
          <a:xfrm>
            <a:off x="8508960" y="6019920"/>
            <a:ext cx="25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6360" y="13287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514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1859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sch Office Sans"/>
              </a:rPr>
              <a:t>How many pieces are being shipped?</a:t>
            </a:r>
            <a:endParaRPr b="0" lang="en-US" sz="2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35080" y="693720"/>
            <a:ext cx="4752720" cy="46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B1A3-85F8-4933-B552-800DE3FA68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sch Office Sans"/>
              </a:rPr>
              <a:t>CARGO SCREENING EXAMPLES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44600" y="882720"/>
            <a:ext cx="68882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ample of a containerized piece (D Container BANDED) shrink-wrap must  be removed for direct contact with container for ETD sample.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79360" y="1465200"/>
            <a:ext cx="6174000" cy="4051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 (*DHL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C41A-A5B0-4340-9319-E32A5B1760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sch Office Sans"/>
              </a:rPr>
              <a:t>CARGO SCREENING EXAMPLES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44600" y="882720"/>
            <a:ext cx="70135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ample of a containerized piece (Crate BANDED one piece box on top one piece for ETD sample) 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65080" y="1465200"/>
            <a:ext cx="6721560" cy="401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 (*DHL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C5BB-7AFD-4D50-B119-4A990A8B6A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sch Office Sans"/>
              </a:rPr>
              <a:t>CARGO SCREENING EXAMPLES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44600" y="882720"/>
            <a:ext cx="69721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ample of Homogenized Pieces: 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hrink wrap must be removed and ETD sample at piece level</a:t>
            </a:r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4040" y="1465200"/>
            <a:ext cx="6887880" cy="3998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TSA Cargo Screening (*DHL)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38A7-C3A9-43F8-917E-0711E2B741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7:04:49Z</dcterms:created>
  <dc:creator>aco1bv</dc:creator>
  <dc:description/>
  <dc:language>en-US</dc:language>
  <cp:lastModifiedBy>aco1bv</cp:lastModifiedBy>
  <dcterms:modified xsi:type="dcterms:W3CDTF">2010-04-19T22:59:20Z</dcterms:modified>
  <cp:revision>103</cp:revision>
  <dc:subject/>
  <dc:title>Default</dc:title>
</cp:coreProperties>
</file>